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329-BD8B-4F64-B967-06920D2BA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CA9-6F2B-4A43-96B1-3FBE6D18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552-6622-44FE-98D4-78ADFE088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5C9-B009-4EE8-B38D-2ADCBE57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A2B4-865C-4113-BA20-18E2DAAA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00E8-AD21-41F6-9B4F-572C06DB5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84F5-CC05-4509-BC8A-758D2AACA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D4D1-FD82-4EF8-A659-0A9699B03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4857-0AA9-4C4C-A9E7-458BBBB35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2EEC-949D-4962-8375-767244B6A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1BB4-6207-42C5-83DF-975F396D2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203D-F4A6-4310-8989-983ED5385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FBEF-DEF7-4C29-95C0-CCAB023DE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7CEA-0725-42E3-9987-3A9391857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C271-348C-4947-86BD-5D0C999EE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1229-4B33-4004-8EE3-1C63F5C2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72C-4C00-4EA1-92E3-A204ACE0669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2F0-BB75-4E55-9A0F-C30C3A0EB2A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mcm08@fuse.net\My Documents\2005 Business Projects\Slides for Century 21 Accounting\Blue\ch12\C21_blue_1219.jpg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E55-2421-472C-82B4-8FFB42B5578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:\Documents and Settings\mcm08@fuse.net\My Documents\2005 Business Projects\Slides for Century 21 Accounting\Blue\ch12\C21_blue_1220.jpg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12:24Z</dcterms:modified>
  <cp:revision>17</cp:revision>
  <dc:subject/>
  <dc:title>Lesson 12-1</dc:title>
</cp:coreProperties>
</file>